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74F6-9350-491B-A4F5-63E822DEA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7548-9B03-4A88-8C2D-E49D84BD2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87B9-931C-426F-A1DC-B6F4DC220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E6D2-BB69-48C2-8A8C-C3FBC61C4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62D3-AE78-4DBE-84F5-31B9F3CDE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7EB9-B09B-4422-A5AE-78EF7731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69FA-0C78-4E37-B52B-7B6A63BA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4578-7930-417E-A378-A7BA8BFC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8260-618D-4C53-B003-F8E22507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C4B1-191B-43F7-AD07-97101BDE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3A7D-AC1A-4050-9AA2-09C66CC0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2547-205F-4ACB-B2A4-525DB44B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4845-6392-485E-9D31-511786BE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0CF7-55BC-4119-A5ED-F8087654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28BC-0E9F-4D71-B158-C5829F09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0CF6-5CEE-4573-BCA4-CF08C7F3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CE81-B5BF-43DF-8115-34BCCA5E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2D08-275D-4888-9F0B-15834829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C710-97E5-4A75-A356-5B6DFBC4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8071-8C61-4AC8-94A6-EC0049B5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862E-14D2-427D-98EE-2073E648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9BA0-2097-4459-BF0E-90A9BE83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AED0A-9B26-4133-9E99-03595831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0EA4D-EE05-415D-BF93-23EA3A67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77EA0-3688-46BE-831E-A80B6CB4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E5BCD-AED5-4E1A-BE10-289AAF3D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AE198-72BC-4E64-B79D-363E998D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BA08-2993-4539-80C4-A6678247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37161-C8AF-4348-BBAB-4053DE2C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685C5-A6F3-44A1-B936-26B22F5C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151FD-D3CB-435E-920D-7816525C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35407-40BE-420D-9B75-2265831E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393B9-DB25-4CC3-8CE6-FCF7F171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E3FA3-FF4C-453B-867F-374D89DC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E9214-A40B-494E-9B7F-6FEBD1E9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1BB-9914-4410-82CA-CE2D682D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AD46-FDE4-45E3-A7F7-001D5E76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DA4A-BF95-403D-B9D5-D25D7276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5F6E-871C-4563-99F8-3DA156DA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4811-7A48-46BC-93AB-3AAB13D4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24E0-E5E0-4EBB-9BCB-BA66D84C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CFB4-E94A-443D-AF1E-EEF5B088758C}" type="slidenum">
              <a:rPr b="1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34A5-924A-4D5F-85E4-E56D86A03120}" type="slidenum">
              <a:rPr b="1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BE25-DFA2-4A12-A7E9-63340A2B320D}" type="slidenum">
              <a:rPr b="1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22.xml"/><Relationship Id="rId4" Type="http://schemas.openxmlformats.org/officeDocument/2006/relationships/slide" Target="slide32.xml"/><Relationship Id="rId5" Type="http://schemas.openxmlformats.org/officeDocument/2006/relationships/slide" Target="slide4.xml"/><Relationship Id="rId6" Type="http://schemas.openxmlformats.org/officeDocument/2006/relationships/slide" Target="slide14.xml"/><Relationship Id="rId7" Type="http://schemas.openxmlformats.org/officeDocument/2006/relationships/slide" Target="slide24.xml"/><Relationship Id="rId8" Type="http://schemas.openxmlformats.org/officeDocument/2006/relationships/slide" Target="slide34.xml"/><Relationship Id="rId9" Type="http://schemas.openxmlformats.org/officeDocument/2006/relationships/slide" Target="slide6.xml"/><Relationship Id="rId10" Type="http://schemas.openxmlformats.org/officeDocument/2006/relationships/slide" Target="slide16.xml"/><Relationship Id="rId11" Type="http://schemas.openxmlformats.org/officeDocument/2006/relationships/slide" Target="slide26.xml"/><Relationship Id="rId12" Type="http://schemas.openxmlformats.org/officeDocument/2006/relationships/slide" Target="slide36.xml"/><Relationship Id="rId13" Type="http://schemas.openxmlformats.org/officeDocument/2006/relationships/slide" Target="slide8.xml"/><Relationship Id="rId14" Type="http://schemas.openxmlformats.org/officeDocument/2006/relationships/slide" Target="slide18.xml"/><Relationship Id="rId15" Type="http://schemas.openxmlformats.org/officeDocument/2006/relationships/slide" Target="slide28.xml"/><Relationship Id="rId16" Type="http://schemas.openxmlformats.org/officeDocument/2006/relationships/slide" Target="slide38.xml"/><Relationship Id="rId17" Type="http://schemas.openxmlformats.org/officeDocument/2006/relationships/slide" Target="slide10.xml"/><Relationship Id="rId18" Type="http://schemas.openxmlformats.org/officeDocument/2006/relationships/slide" Target="slide20.xml"/><Relationship Id="rId19" Type="http://schemas.openxmlformats.org/officeDocument/2006/relationships/slide" Target="slide30.xml"/><Relationship Id="rId20" Type="http://schemas.openxmlformats.org/officeDocument/2006/relationships/slide" Target="slide40.xml"/><Relationship Id="rId21" Type="http://schemas.openxmlformats.org/officeDocument/2006/relationships/image" Target="../media/image1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en.wikipedia.org/wiki/File:JacobZuma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457200" y="1143000"/>
          <a:ext cx="8153280" cy="547524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ograph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0d0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06a06"/>
                          </a:solidFill>
                          <a:latin typeface="Times New Roman"/>
                        </a:rPr>
                        <a:t>Miscellane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0d0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b526"/>
                          </a:solidFill>
                          <a:latin typeface="Times New Roman"/>
                        </a:rPr>
                        <a:t>Farming, education &amp; heal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0d0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f0"/>
                          </a:solidFill>
                          <a:latin typeface="Times New Roman"/>
                        </a:rPr>
                        <a:t>Afric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f0"/>
                          </a:solidFill>
                          <a:latin typeface="Times New Roman"/>
                        </a:rPr>
                        <a:t>Art’s  &amp; Spor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0d0d"/>
                    </a:solidFill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36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69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36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69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36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69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36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69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36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69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137" name="Rectangle 1"/>
          <p:cNvSpPr/>
          <p:nvPr/>
        </p:nvSpPr>
        <p:spPr>
          <a:xfrm>
            <a:off x="228600" y="125280"/>
            <a:ext cx="3492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Rectangle 4" descr=""/>
          <p:cNvPicPr/>
          <p:nvPr/>
        </p:nvPicPr>
        <p:blipFill>
          <a:blip r:embed="rId21"/>
          <a:stretch/>
        </p:blipFill>
        <p:spPr>
          <a:xfrm>
            <a:off x="585720" y="-49320"/>
            <a:ext cx="813132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426960" y="152280"/>
            <a:ext cx="8126640" cy="14511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2286000" y="28288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3631"/>
                </a:solidFill>
                <a:latin typeface="Times New Roman"/>
              </a:rPr>
              <a:t>What are two of the three capitals in South Afric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"/>
          <p:cNvSpPr/>
          <p:nvPr/>
        </p:nvSpPr>
        <p:spPr>
          <a:xfrm>
            <a:off x="2699640" y="1371600"/>
            <a:ext cx="441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d3631"/>
                </a:solidFill>
                <a:latin typeface="Arial"/>
              </a:rPr>
              <a:t>-Pretori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d3631"/>
                </a:solidFill>
                <a:latin typeface="Arial"/>
              </a:rPr>
              <a:t>-Cape tow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d3631"/>
                </a:solidFill>
                <a:latin typeface="Arial"/>
              </a:rPr>
              <a:t>-Bloemfonte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d36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2224080" y="266688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What is the largest animal in Afric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457200" y="301680"/>
            <a:ext cx="8126280" cy="1450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2059560" y="1828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6a0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1819440" y="107460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691a"/>
                </a:solidFill>
                <a:latin typeface="Arial"/>
              </a:rPr>
              <a:t>The African elep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http://www.baconbabble.com/wp-content/uploads/2010/05/largest-land-animal-African-Bush-Elephant.jpg"/>
          <p:cNvPicPr/>
          <p:nvPr/>
        </p:nvPicPr>
        <p:blipFill>
          <a:blip r:embed="rId1"/>
          <a:stretch/>
        </p:blipFill>
        <p:spPr>
          <a:xfrm>
            <a:off x="3429000" y="2017800"/>
            <a:ext cx="2376360" cy="29350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4">
            <a:hlinkClick r:id="rId2" action="ppaction://hlinksldjump"/>
          </p:cNvPr>
          <p:cNvSpPr/>
          <p:nvPr/>
        </p:nvSpPr>
        <p:spPr>
          <a:xfrm>
            <a:off x="4191120" y="6095880"/>
            <a:ext cx="1066680" cy="304920"/>
          </a:xfrm>
          <a:custGeom>
            <a:avLst/>
            <a:gdLst>
              <a:gd name="textAreaLeft" fmla="*/ 19440 w 1066680"/>
              <a:gd name="textAreaRight" fmla="*/ 1047240 w 10666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5498" h="21600">
                <a:moveTo>
                  <a:pt x="0" y="0"/>
                </a:moveTo>
                <a:lnTo>
                  <a:pt x="75498" y="0"/>
                </a:lnTo>
                <a:lnTo>
                  <a:pt x="75498" y="21600"/>
                </a:lnTo>
                <a:lnTo>
                  <a:pt x="0" y="21600"/>
                </a:lnTo>
                <a:close/>
              </a:path>
              <a:path fill="lightenLess" w="75498" h="21600">
                <a:moveTo>
                  <a:pt x="0" y="0"/>
                </a:moveTo>
                <a:lnTo>
                  <a:pt x="75498" y="0"/>
                </a:lnTo>
                <a:lnTo>
                  <a:pt x="74098" y="1400"/>
                </a:lnTo>
                <a:lnTo>
                  <a:pt x="1400" y="1400"/>
                </a:lnTo>
                <a:close/>
              </a:path>
              <a:path fill="darken" w="75498" h="21600">
                <a:moveTo>
                  <a:pt x="75498" y="0"/>
                </a:moveTo>
                <a:lnTo>
                  <a:pt x="75498" y="21600"/>
                </a:lnTo>
                <a:lnTo>
                  <a:pt x="74098" y="20200"/>
                </a:lnTo>
                <a:lnTo>
                  <a:pt x="74098" y="1400"/>
                </a:lnTo>
                <a:close/>
              </a:path>
              <a:path fill="darkenLess" w="75498" h="21600">
                <a:moveTo>
                  <a:pt x="75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98" y="20200"/>
                </a:lnTo>
                <a:close/>
              </a:path>
              <a:path fill="lighten" w="75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98" h="21600">
                <a:moveTo>
                  <a:pt x="37749" y="3837"/>
                </a:moveTo>
                <a:lnTo>
                  <a:pt x="40325" y="6448"/>
                </a:lnTo>
                <a:lnTo>
                  <a:pt x="40325" y="4707"/>
                </a:lnTo>
                <a:lnTo>
                  <a:pt x="42101" y="4707"/>
                </a:lnTo>
                <a:lnTo>
                  <a:pt x="42101" y="8224"/>
                </a:lnTo>
                <a:lnTo>
                  <a:pt x="44712" y="10800"/>
                </a:lnTo>
                <a:lnTo>
                  <a:pt x="43058" y="10800"/>
                </a:lnTo>
                <a:lnTo>
                  <a:pt x="43058" y="17989"/>
                </a:lnTo>
                <a:lnTo>
                  <a:pt x="32440" y="17989"/>
                </a:lnTo>
                <a:lnTo>
                  <a:pt x="32440" y="10800"/>
                </a:lnTo>
                <a:lnTo>
                  <a:pt x="30786" y="10800"/>
                </a:lnTo>
                <a:close/>
              </a:path>
              <a:path fill="darkenLess" w="75498" h="21600">
                <a:moveTo>
                  <a:pt x="40325" y="6448"/>
                </a:moveTo>
                <a:lnTo>
                  <a:pt x="40325" y="4707"/>
                </a:lnTo>
                <a:lnTo>
                  <a:pt x="42101" y="4707"/>
                </a:lnTo>
                <a:lnTo>
                  <a:pt x="42101" y="8224"/>
                </a:lnTo>
                <a:close/>
              </a:path>
              <a:path fill="darkenLess" w="75498" h="21600">
                <a:moveTo>
                  <a:pt x="36826" y="14299"/>
                </a:moveTo>
                <a:lnTo>
                  <a:pt x="38672" y="14299"/>
                </a:lnTo>
                <a:lnTo>
                  <a:pt x="38672" y="17989"/>
                </a:lnTo>
                <a:lnTo>
                  <a:pt x="43058" y="17989"/>
                </a:lnTo>
                <a:lnTo>
                  <a:pt x="43058" y="10800"/>
                </a:lnTo>
                <a:lnTo>
                  <a:pt x="32440" y="10800"/>
                </a:lnTo>
                <a:lnTo>
                  <a:pt x="32440" y="17989"/>
                </a:lnTo>
                <a:lnTo>
                  <a:pt x="36826" y="17989"/>
                </a:lnTo>
                <a:close/>
              </a:path>
            </a:pathLst>
          </a:custGeom>
          <a:solidFill>
            <a:srgbClr val="f66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411120" y="2362320"/>
            <a:ext cx="844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What are the largest exports in South Afric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6280" cy="1451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1905120" y="23623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6691a"/>
                </a:solidFill>
                <a:latin typeface="Arial"/>
              </a:rPr>
              <a:t>Gold &amp; diamo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>
            <a:hlinkClick r:id="rId1" action="ppaction://hlinksldjump"/>
          </p:cNvPr>
          <p:cNvSpPr/>
          <p:nvPr/>
        </p:nvSpPr>
        <p:spPr>
          <a:xfrm>
            <a:off x="3429000" y="57913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66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609480" y="301680"/>
            <a:ext cx="8126640" cy="1450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"/>
          <p:cNvSpPr/>
          <p:nvPr/>
        </p:nvSpPr>
        <p:spPr>
          <a:xfrm>
            <a:off x="1523880" y="2133720"/>
            <a:ext cx="675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Who is the president of south Afric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a. Max Sisu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b. Kgalema Motl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c. Jacob Zu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d. Sandile Nogob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2514600" y="84312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691a"/>
                </a:solidFill>
                <a:latin typeface="Arial"/>
              </a:rPr>
              <a:t>C. Jacob Z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66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http://upload.wikimedia.org/wikipedia/commons/thumb/4/4f/JacobZuma.jpg/225px-JacobZu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6600" y="2174760"/>
            <a:ext cx="214308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161360" y="1844640"/>
            <a:ext cx="6615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How many countries are in Afric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a. 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b. 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c. 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d. 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h. 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tretch/>
        </p:blipFill>
        <p:spPr>
          <a:xfrm>
            <a:off x="404640" y="380880"/>
            <a:ext cx="8128080" cy="1451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2895480" y="205740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6691a"/>
                </a:solidFill>
                <a:latin typeface="Arial"/>
              </a:rPr>
              <a:t>C. 5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>
            <a:hlinkClick r:id="rId1" action="ppaction://hlinksldjump"/>
          </p:cNvPr>
          <p:cNvSpPr/>
          <p:nvPr/>
        </p:nvSpPr>
        <p:spPr>
          <a:xfrm>
            <a:off x="4038480" y="55627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66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2666880" y="2438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</a:rPr>
              <a:t>Where in Africa is South Africa loc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533520" y="115920"/>
            <a:ext cx="8126280" cy="1450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507960" y="228600"/>
            <a:ext cx="8126280" cy="17524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"/>
          <p:cNvSpPr/>
          <p:nvPr/>
        </p:nvSpPr>
        <p:spPr>
          <a:xfrm>
            <a:off x="2286000" y="28288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What country is in the middle of  South Afric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http://upload.wikimedia.org/wikipedia/commons/thumb/1/1e/Map_of_South_Africa_with_English_labels.svg/220px-Map_of_South_Africa_with_English_labels.svg.png"/>
          <p:cNvPicPr/>
          <p:nvPr/>
        </p:nvPicPr>
        <p:blipFill>
          <a:blip r:embed="rId1"/>
          <a:stretch/>
        </p:blipFill>
        <p:spPr>
          <a:xfrm>
            <a:off x="4114800" y="3124080"/>
            <a:ext cx="2660760" cy="23227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"/>
          <p:cNvSpPr/>
          <p:nvPr/>
        </p:nvSpPr>
        <p:spPr>
          <a:xfrm>
            <a:off x="1494000" y="13716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6691a"/>
                </a:solidFill>
                <a:latin typeface="Bell MT"/>
              </a:rPr>
              <a:t>Lesoth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838080" y="57913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66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2314440" y="3048120"/>
            <a:ext cx="461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Times New Roman"/>
              </a:rPr>
              <a:t>In South Africa what grade does high school beg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547560" y="351000"/>
            <a:ext cx="8126640" cy="1450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2590920" y="2438280"/>
            <a:ext cx="419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2d050"/>
                </a:solidFill>
                <a:latin typeface="Arial"/>
              </a:rPr>
              <a:t>The 8</a:t>
            </a:r>
            <a:r>
              <a:rPr b="0" lang="en-US" sz="4800" spc="-1" strike="noStrike" baseline="30000">
                <a:solidFill>
                  <a:srgbClr val="92d050"/>
                </a:solidFill>
                <a:latin typeface="Arial"/>
              </a:rPr>
              <a:t>th</a:t>
            </a:r>
            <a:r>
              <a:rPr b="0" lang="en-US" sz="4800" spc="-1" strike="noStrike">
                <a:solidFill>
                  <a:srgbClr val="92d050"/>
                </a:solidFill>
                <a:latin typeface="Arial"/>
              </a:rPr>
              <a:t> gra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2452680" y="2057400"/>
            <a:ext cx="45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Times New Roman"/>
              </a:rPr>
              <a:t>True or false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92d050"/>
                </a:solidFill>
                <a:latin typeface="Arial"/>
              </a:rPr>
              <a:t>South African farms, produce 85% of all meat consum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126640" cy="1450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4"/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2682720" y="2073240"/>
            <a:ext cx="396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2d050"/>
                </a:solidFill>
                <a:latin typeface="Castellar"/>
              </a:rPr>
              <a:t>Tr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2311560" y="2362320"/>
            <a:ext cx="419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Arial"/>
              </a:rPr>
              <a:t>Agricultural exports have constituted 30% of South Africa’s total exports for the past five yea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8126280" cy="14508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2590920" y="1428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Arial"/>
              </a:rPr>
              <a:t>True or fal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4"/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"/>
          <p:cNvSpPr/>
          <p:nvPr/>
        </p:nvSpPr>
        <p:spPr>
          <a:xfrm>
            <a:off x="2819520" y="21337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2d050"/>
                </a:solidFill>
                <a:latin typeface="Castellar"/>
              </a:rPr>
              <a:t>False. Its 8%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2290680" y="2943360"/>
            <a:ext cx="504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Times New Roman"/>
              </a:rPr>
              <a:t>-Half the population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Times New Roman"/>
              </a:rPr>
              <a:t>kids in Africa aren't be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Times New Roman"/>
              </a:rPr>
              <a:t>educ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tretch/>
        </p:blipFill>
        <p:spPr>
          <a:xfrm>
            <a:off x="507960" y="301680"/>
            <a:ext cx="8126280" cy="1450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4"/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3661560" y="2921040"/>
            <a:ext cx="182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2d050"/>
                </a:solidFill>
                <a:latin typeface="Castellar"/>
                <a:ea typeface="Arial"/>
              </a:rPr>
              <a:t>Tr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1" descr=""/>
          <p:cNvPicPr/>
          <p:nvPr/>
        </p:nvPicPr>
        <p:blipFill>
          <a:blip r:embed="rId1"/>
          <a:stretch/>
        </p:blipFill>
        <p:spPr>
          <a:xfrm>
            <a:off x="23760" y="317520"/>
            <a:ext cx="9291600" cy="1200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purple_md_blk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960" y="6019920"/>
            <a:ext cx="657360" cy="47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4"/>
          <a:stretch/>
        </p:blipFill>
        <p:spPr>
          <a:xfrm>
            <a:off x="3276720" y="2376360"/>
            <a:ext cx="2590560" cy="2602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507960" y="304920"/>
            <a:ext cx="8126280" cy="14572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"/>
          <p:cNvSpPr/>
          <p:nvPr/>
        </p:nvSpPr>
        <p:spPr>
          <a:xfrm>
            <a:off x="1676520" y="2133720"/>
            <a:ext cx="502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Arial"/>
              </a:rPr>
              <a:t>About 24,000 children die of starvation every…(day/ 2 days/ week) in Afr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4"/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2773440" y="1744560"/>
            <a:ext cx="36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2d050"/>
                </a:solidFill>
                <a:latin typeface="Arial"/>
              </a:rPr>
              <a:t>Every day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441360" y="457200"/>
            <a:ext cx="8126280" cy="14572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"/>
          <p:cNvSpPr/>
          <p:nvPr/>
        </p:nvSpPr>
        <p:spPr>
          <a:xfrm>
            <a:off x="2133720" y="259092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What do they call soccer in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4"/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2895480" y="22860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Foo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6" descr=""/>
          <p:cNvPicPr/>
          <p:nvPr/>
        </p:nvPicPr>
        <p:blipFill>
          <a:blip r:embed="rId1"/>
          <a:stretch/>
        </p:blipFill>
        <p:spPr>
          <a:xfrm>
            <a:off x="507960" y="457200"/>
            <a:ext cx="8126280" cy="1457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1981080" y="2133720"/>
            <a:ext cx="4953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Times New Roman"/>
              </a:rPr>
              <a:t>When making some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Times New Roman"/>
              </a:rPr>
              <a:t>with clay in Africa, 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Times New Roman"/>
              </a:rPr>
              <a:t>would they usually get the cl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4"/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2438280" y="249552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They would get it from the ground by themselv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2209680" y="17524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Times New Roman"/>
              </a:rPr>
              <a:t>Name 2 of the 3 most popular sports in Afric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441360" y="295200"/>
            <a:ext cx="8126280" cy="1457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2133720" y="1981080"/>
            <a:ext cx="259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f0"/>
                </a:solidFill>
                <a:latin typeface="Bell MT"/>
              </a:rPr>
              <a:t>Soccer, rugby, &amp; crick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http://images.free-extras.com/pics/s/soccer_ball-993.png"/>
          <p:cNvPicPr/>
          <p:nvPr/>
        </p:nvPicPr>
        <p:blipFill>
          <a:blip r:embed="rId1"/>
          <a:stretch/>
        </p:blipFill>
        <p:spPr>
          <a:xfrm>
            <a:off x="6248520" y="10573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4"/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1600200" y="1508040"/>
            <a:ext cx="54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Were the oldest art objects in the world discovered in a South Afric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441360" y="295200"/>
            <a:ext cx="8126280" cy="1457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4"/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"/>
          <p:cNvSpPr/>
          <p:nvPr/>
        </p:nvSpPr>
        <p:spPr>
          <a:xfrm>
            <a:off x="2362320" y="23623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Yes, they were found in an African cave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1905120" y="234792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</a:rPr>
              <a:t>Name four of the  six colors on the South African fla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Rectangle 1" descr=""/>
          <p:cNvPicPr/>
          <p:nvPr/>
        </p:nvPicPr>
        <p:blipFill>
          <a:blip r:embed="rId1"/>
          <a:stretch/>
        </p:blipFill>
        <p:spPr>
          <a:xfrm>
            <a:off x="542880" y="133200"/>
            <a:ext cx="8131320" cy="1098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2229480" y="1752480"/>
            <a:ext cx="60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Times New Roman"/>
              </a:rPr>
              <a:t>True or fal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Times New Roman"/>
              </a:rPr>
              <a:t>-Soccer was invented in Afric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1"/>
          <a:stretch/>
        </p:blipFill>
        <p:spPr>
          <a:xfrm>
            <a:off x="415800" y="152280"/>
            <a:ext cx="8126640" cy="1457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4"/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2895480" y="228600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Castellar"/>
              </a:rPr>
              <a:t>Fal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Rectangle 1" descr=""/>
          <p:cNvPicPr/>
          <p:nvPr/>
        </p:nvPicPr>
        <p:blipFill>
          <a:blip r:embed="rId1"/>
          <a:stretch/>
        </p:blipFill>
        <p:spPr>
          <a:xfrm>
            <a:off x="1822320" y="-237960"/>
            <a:ext cx="5651640" cy="5925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1143000" y="838080"/>
            <a:ext cx="2111400" cy="1285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purple_md_blk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96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Rectangle 1" descr=""/>
          <p:cNvPicPr/>
          <p:nvPr/>
        </p:nvPicPr>
        <p:blipFill>
          <a:blip r:embed="rId1"/>
          <a:stretch/>
        </p:blipFill>
        <p:spPr>
          <a:xfrm>
            <a:off x="695160" y="-96840"/>
            <a:ext cx="8131320" cy="11034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2286000" y="2828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</a:rPr>
              <a:t>What two oceans do South Africa touch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Rectangle 1" descr=""/>
          <p:cNvPicPr/>
          <p:nvPr/>
        </p:nvPicPr>
        <p:blipFill>
          <a:blip r:embed="rId1"/>
          <a:stretch/>
        </p:blipFill>
        <p:spPr>
          <a:xfrm>
            <a:off x="1262160" y="2444760"/>
            <a:ext cx="6406920" cy="115236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4">
            <a:hlinkClick r:id="rId2" action="ppaction://hlinksldjump"/>
          </p:cNvPr>
          <p:cNvSpPr/>
          <p:nvPr/>
        </p:nvSpPr>
        <p:spPr>
          <a:xfrm>
            <a:off x="685800" y="57214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457200" y="301680"/>
            <a:ext cx="8126280" cy="1450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2"/>
          <a:stretch/>
        </p:blipFill>
        <p:spPr>
          <a:xfrm>
            <a:off x="609480" y="2895480"/>
            <a:ext cx="7615440" cy="957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1905120" y="2506680"/>
            <a:ext cx="467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3631"/>
                </a:solidFill>
                <a:latin typeface="Arial"/>
              </a:rPr>
              <a:t>Johannesbur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d36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JSEAQUIS</cp:lastModifiedBy>
  <dcterms:modified xsi:type="dcterms:W3CDTF">2010-11-03T12:45:11Z</dcterms:modified>
  <cp:revision>46</cp:revision>
  <dc:subject/>
  <dc:title>Slide 1</dc:title>
</cp:coreProperties>
</file>